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59384-35A2-4B58-97E7-A48FDB473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8126B-E836-489C-AADE-F91A573C1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69674-FC70-44FC-BD52-85B09320A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3E898-E60B-4D7B-B016-FCE55E54D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3DE16-795C-4783-B212-D8EC91FD5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27EAF-6523-4F91-931D-8120D894E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43BDF-C8D9-41E4-84AD-283F0E985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1A0EC-AD7B-477B-A17F-DA3770735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FB5C0-1A8E-452D-A901-AD4200443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2040D-4901-4341-A400-622A9848D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9FE88-7F2A-401A-9A7C-F43CDCDE9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8119D-39BC-4D70-A3E7-A44F059C0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2010960" y="245520"/>
            <a:ext cx="6896160" cy="5452200"/>
            <a:chOff x="2010960" y="245520"/>
            <a:chExt cx="6896160" cy="5452200"/>
          </a:xfrm>
        </p:grpSpPr>
        <p:grpSp>
          <p:nvGrpSpPr>
            <p:cNvPr id="1" name="Group 3"/>
            <p:cNvGrpSpPr/>
            <p:nvPr/>
          </p:nvGrpSpPr>
          <p:grpSpPr>
            <a:xfrm>
              <a:off x="3484080" y="954000"/>
              <a:ext cx="945720" cy="709560"/>
              <a:chOff x="3484080" y="954000"/>
              <a:chExt cx="945720" cy="709560"/>
            </a:xfrm>
          </p:grpSpPr>
          <p:sp>
            <p:nvSpPr>
              <p:cNvPr id="2" name="Oval 4"/>
              <p:cNvSpPr/>
              <p:nvPr/>
            </p:nvSpPr>
            <p:spPr>
              <a:xfrm>
                <a:off x="3484080" y="954000"/>
                <a:ext cx="94572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" name="Oval 5"/>
              <p:cNvSpPr/>
              <p:nvPr/>
            </p:nvSpPr>
            <p:spPr>
              <a:xfrm>
                <a:off x="3823920" y="1264320"/>
                <a:ext cx="22752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010960" y="245520"/>
              <a:ext cx="6896160" cy="5452200"/>
              <a:chOff x="2010960" y="245520"/>
              <a:chExt cx="6896160" cy="54522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7" name="Oval 9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" name="Oval 10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" name="Group 11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0" name="Group 12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1" name="Freeform 13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>
                        <a:gd name="textAreaLeft" fmla="*/ 0 w 2125440"/>
                        <a:gd name="textAreaRight" fmla="*/ 2125800 w 2125440"/>
                        <a:gd name="textAreaTop" fmla="*/ 0 h 384480"/>
                        <a:gd name="textAreaBottom" fmla="*/ 384840 h 384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2" name="Freeform 14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>
                        <a:gd name="textAreaLeft" fmla="*/ 0 w 1140480"/>
                        <a:gd name="textAreaRight" fmla="*/ 1140840 w 1140480"/>
                        <a:gd name="textAreaTop" fmla="*/ 0 h 604080"/>
                        <a:gd name="textAreaBottom" fmla="*/ 604440 h 604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3" name="Group 15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4" name="Freeform 16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>
                        <a:gd name="textAreaLeft" fmla="*/ 0 w 2236680"/>
                        <a:gd name="textAreaRight" fmla="*/ 2237040 w 2236680"/>
                        <a:gd name="textAreaTop" fmla="*/ 0 h 427680"/>
                        <a:gd name="textAreaBottom" fmla="*/ 428040 h 4276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5" name="Freeform 17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>
                        <a:gd name="textAreaLeft" fmla="*/ 0 w 1200600"/>
                        <a:gd name="textAreaRight" fmla="*/ 1200960 w 1200600"/>
                        <a:gd name="textAreaTop" fmla="*/ 0 h 671760"/>
                        <a:gd name="textAreaBottom" fmla="*/ 672120 h 6717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6" name="Group 18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7" name="Freeform 19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>
                        <a:gd name="textAreaLeft" fmla="*/ 0 w 2140560"/>
                        <a:gd name="textAreaRight" fmla="*/ 2140920 w 2140560"/>
                        <a:gd name="textAreaTop" fmla="*/ 0 h 374400"/>
                        <a:gd name="textAreaBottom" fmla="*/ 374760 h 3744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8" name="Freeform 20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>
                        <a:gd name="textAreaLeft" fmla="*/ 0 w 1149120"/>
                        <a:gd name="textAreaRight" fmla="*/ 1149480 w 1149120"/>
                        <a:gd name="textAreaTop" fmla="*/ 0 h 586800"/>
                        <a:gd name="textAreaBottom" fmla="*/ 587160 h 5868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" name="Group 21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20" name="Freeform 22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>
                        <a:gd name="textAreaLeft" fmla="*/ 0 w 2067480"/>
                        <a:gd name="textAreaRight" fmla="*/ 2067840 w 2067480"/>
                        <a:gd name="textAreaTop" fmla="*/ 0 h 412920"/>
                        <a:gd name="textAreaBottom" fmla="*/ 413280 h 4129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" name="Freeform 23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>
                        <a:gd name="textAreaLeft" fmla="*/ 0 w 1110600"/>
                        <a:gd name="textAreaRight" fmla="*/ 1110960 w 1110600"/>
                        <a:gd name="textAreaTop" fmla="*/ 0 h 648360"/>
                        <a:gd name="textAreaBottom" fmla="*/ 648360 h 6483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" name="Group 24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23" name="Freeform 25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>
                        <a:gd name="textAreaLeft" fmla="*/ 0 w 1904760"/>
                        <a:gd name="textAreaRight" fmla="*/ 1905120 w 1904760"/>
                        <a:gd name="textAreaTop" fmla="*/ 0 h 384480"/>
                        <a:gd name="textAreaBottom" fmla="*/ 384840 h 384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" name="Freeform 26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>
                        <a:gd name="textAreaLeft" fmla="*/ 0 w 1023480"/>
                        <a:gd name="textAreaRight" fmla="*/ 1023840 w 1023480"/>
                        <a:gd name="textAreaTop" fmla="*/ 0 h 602640"/>
                        <a:gd name="textAreaBottom" fmla="*/ 602640 h 6026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" name="Group 27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6" name="Freeform 28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>
                        <a:gd name="textAreaLeft" fmla="*/ 0 w 1730880"/>
                        <a:gd name="textAreaRight" fmla="*/ 1731240 w 1730880"/>
                        <a:gd name="textAreaTop" fmla="*/ 0 h 270000"/>
                        <a:gd name="textAreaBottom" fmla="*/ 270360 h 2700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" name="Freeform 29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>
                        <a:gd name="textAreaLeft" fmla="*/ 0 w 929520"/>
                        <a:gd name="textAreaRight" fmla="*/ 929880 w 929520"/>
                        <a:gd name="textAreaTop" fmla="*/ 0 h 423000"/>
                        <a:gd name="textAreaBottom" fmla="*/ 423360 h 4230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8" name="Group 30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9" name="Freeform 31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>
                        <a:gd name="textAreaLeft" fmla="*/ 0 w 1520280"/>
                        <a:gd name="textAreaRight" fmla="*/ 1520640 w 152028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30" name="Freeform 32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>
                        <a:gd name="textAreaLeft" fmla="*/ 0 w 816480"/>
                        <a:gd name="textAreaRight" fmla="*/ 816840 w 816480"/>
                        <a:gd name="textAreaTop" fmla="*/ 0 h 416520"/>
                        <a:gd name="textAreaBottom" fmla="*/ 416880 h 4165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31" name="Group 33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32" name="Freeform 34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>
                        <a:gd name="textAreaLeft" fmla="*/ -360 w 2125800"/>
                        <a:gd name="textAreaRight" fmla="*/ 2125800 w 2125800"/>
                        <a:gd name="textAreaTop" fmla="*/ 0 h 384480"/>
                        <a:gd name="textAreaBottom" fmla="*/ 384840 h 384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33" name="Freeform 35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>
                        <a:gd name="textAreaLeft" fmla="*/ -360 w 1140840"/>
                        <a:gd name="textAreaRight" fmla="*/ 1140840 w 1140840"/>
                        <a:gd name="textAreaTop" fmla="*/ 0 h 604080"/>
                        <a:gd name="textAreaBottom" fmla="*/ 604440 h 604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34" name="Group 36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35" name="Freeform 37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>
                        <a:gd name="textAreaLeft" fmla="*/ -360 w 2236680"/>
                        <a:gd name="textAreaRight" fmla="*/ 2236680 w 2236680"/>
                        <a:gd name="textAreaTop" fmla="*/ 0 h 427680"/>
                        <a:gd name="textAreaBottom" fmla="*/ 428040 h 4276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36" name="Freeform 38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>
                        <a:gd name="textAreaLeft" fmla="*/ 360 w 1200960"/>
                        <a:gd name="textAreaRight" fmla="*/ 1201680 w 1200960"/>
                        <a:gd name="textAreaTop" fmla="*/ 0 h 672480"/>
                        <a:gd name="textAreaBottom" fmla="*/ 672840 h 6724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37" name="Group 39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38" name="Freeform 40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>
                        <a:gd name="textAreaLeft" fmla="*/ -360 w 2140920"/>
                        <a:gd name="textAreaRight" fmla="*/ 2140920 w 2140920"/>
                        <a:gd name="textAreaTop" fmla="*/ 0 h 375120"/>
                        <a:gd name="textAreaBottom" fmla="*/ 375480 h 3751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39" name="Freeform 41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>
                        <a:gd name="textAreaLeft" fmla="*/ 360 w 1149120"/>
                        <a:gd name="textAreaRight" fmla="*/ 1149840 w 1149120"/>
                        <a:gd name="textAreaTop" fmla="*/ 0 h 587160"/>
                        <a:gd name="textAreaBottom" fmla="*/ 587520 h 5871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40" name="Group 42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41" name="Freeform 43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>
                        <a:gd name="textAreaLeft" fmla="*/ 360 w 2067840"/>
                        <a:gd name="textAreaRight" fmla="*/ 2068560 w 2067840"/>
                        <a:gd name="textAreaTop" fmla="*/ 0 h 412920"/>
                        <a:gd name="textAreaBottom" fmla="*/ 413280 h 4129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42" name="Freeform 44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>
                        <a:gd name="textAreaLeft" fmla="*/ -360 w 1110600"/>
                        <a:gd name="textAreaRight" fmla="*/ 1110600 w 1110600"/>
                        <a:gd name="textAreaTop" fmla="*/ 0 h 648360"/>
                        <a:gd name="textAreaBottom" fmla="*/ 648360 h 6483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43" name="Group 45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44" name="Freeform 46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>
                        <a:gd name="textAreaLeft" fmla="*/ -360 w 1904760"/>
                        <a:gd name="textAreaRight" fmla="*/ 1904760 w 1904760"/>
                        <a:gd name="textAreaTop" fmla="*/ 0 h 384840"/>
                        <a:gd name="textAreaBottom" fmla="*/ 385200 h 3848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45" name="Freeform 47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>
                        <a:gd name="textAreaLeft" fmla="*/ 360 w 1023120"/>
                        <a:gd name="textAreaRight" fmla="*/ 1023840 w 1023120"/>
                        <a:gd name="textAreaTop" fmla="*/ 0 h 603000"/>
                        <a:gd name="textAreaBottom" fmla="*/ 603360 h 6030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46" name="Group 48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47" name="Freeform 49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>
                        <a:gd name="textAreaLeft" fmla="*/ 360 w 1730880"/>
                        <a:gd name="textAreaRight" fmla="*/ 1731600 w 1730880"/>
                        <a:gd name="textAreaTop" fmla="*/ 0 h 269280"/>
                        <a:gd name="textAreaBottom" fmla="*/ 269640 h 2692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48" name="Freeform 50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>
                        <a:gd name="textAreaLeft" fmla="*/ 360 w 929520"/>
                        <a:gd name="textAreaRight" fmla="*/ 930240 w 929520"/>
                        <a:gd name="textAreaTop" fmla="*/ 0 h 423000"/>
                        <a:gd name="textAreaBottom" fmla="*/ 423360 h 4230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49" name="Group 51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50" name="Freeform 52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>
                        <a:gd name="textAreaLeft" fmla="*/ -360 w 1520280"/>
                        <a:gd name="textAreaRight" fmla="*/ 1520280 w 152028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51" name="Freeform 53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>
                        <a:gd name="textAreaLeft" fmla="*/ -360 w 816120"/>
                        <a:gd name="textAreaRight" fmla="*/ 816120 w 816120"/>
                        <a:gd name="textAreaTop" fmla="*/ 0 h 416520"/>
                        <a:gd name="textAreaBottom" fmla="*/ 416880 h 4165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52" name="Group 54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53" name="Freeform 55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>
                        <a:gd name="textAreaLeft" fmla="*/ -360 w 1520280"/>
                        <a:gd name="textAreaRight" fmla="*/ 1520280 w 152028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54" name="Freeform 56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>
                        <a:gd name="textAreaLeft" fmla="*/ 360 w 816480"/>
                        <a:gd name="textAreaRight" fmla="*/ 817200 w 816480"/>
                        <a:gd name="textAreaTop" fmla="*/ 0 h 416520"/>
                        <a:gd name="textAreaBottom" fmla="*/ 416880 h 4165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55" name="Group 57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56" name="Freeform 58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>
                        <a:gd name="textAreaLeft" fmla="*/ -360 w 1520280"/>
                        <a:gd name="textAreaRight" fmla="*/ 1520280 w 152028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57" name="Freeform 59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>
                        <a:gd name="textAreaLeft" fmla="*/ -360 w 816120"/>
                        <a:gd name="textAreaRight" fmla="*/ 816120 w 816120"/>
                        <a:gd name="textAreaTop" fmla="*/ 0 h 416880"/>
                        <a:gd name="textAreaBottom" fmla="*/ 417240 h 4168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58" name="Group 60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59" name="Freeform 61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>
                        <a:gd name="textAreaLeft" fmla="*/ -360 w 1542600"/>
                        <a:gd name="textAreaRight" fmla="*/ 1542600 w 154260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60" name="Freeform 62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>
                        <a:gd name="textAreaLeft" fmla="*/ -360 w 828360"/>
                        <a:gd name="textAreaRight" fmla="*/ 828360 w 828360"/>
                        <a:gd name="textAreaTop" fmla="*/ 0 h 416160"/>
                        <a:gd name="textAreaBottom" fmla="*/ 416520 h 4161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61" name="Group 63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62" name="Freeform 64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>
                        <a:gd name="textAreaLeft" fmla="*/ 360 w 1356480"/>
                        <a:gd name="textAreaRight" fmla="*/ 1357200 w 135648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63" name="Freeform 65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>
                        <a:gd name="textAreaLeft" fmla="*/ -360 w 729000"/>
                        <a:gd name="textAreaRight" fmla="*/ 729000 w 729000"/>
                        <a:gd name="textAreaTop" fmla="*/ 0 h 416880"/>
                        <a:gd name="textAreaBottom" fmla="*/ 417240 h 4168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64" name="Group 66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65" name="Freeform 67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>
                        <a:gd name="textAreaLeft" fmla="*/ 360 w 1308240"/>
                        <a:gd name="textAreaRight" fmla="*/ 1308960 w 130824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66" name="Freeform 68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>
                        <a:gd name="textAreaLeft" fmla="*/ 360 w 702720"/>
                        <a:gd name="textAreaRight" fmla="*/ 703440 w 702720"/>
                        <a:gd name="textAreaTop" fmla="*/ 0 h 416520"/>
                        <a:gd name="textAreaBottom" fmla="*/ 416880 h 4165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67" name="Group 69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68" name="Freeform 70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>
                        <a:gd name="textAreaLeft" fmla="*/ 0 w 1519920"/>
                        <a:gd name="textAreaRight" fmla="*/ 1520280 w 151992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69" name="Freeform 71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>
                        <a:gd name="textAreaLeft" fmla="*/ 0 w 816120"/>
                        <a:gd name="textAreaRight" fmla="*/ 816480 w 816120"/>
                        <a:gd name="textAreaTop" fmla="*/ 0 h 416520"/>
                        <a:gd name="textAreaBottom" fmla="*/ 416880 h 4165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70" name="Group 72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71" name="Freeform 73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>
                        <a:gd name="textAreaLeft" fmla="*/ 0 w 1519920"/>
                        <a:gd name="textAreaRight" fmla="*/ 1520280 w 151992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72" name="Freeform 74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>
                        <a:gd name="textAreaLeft" fmla="*/ 0 w 816120"/>
                        <a:gd name="textAreaRight" fmla="*/ 816480 w 816120"/>
                        <a:gd name="textAreaTop" fmla="*/ 0 h 416880"/>
                        <a:gd name="textAreaBottom" fmla="*/ 417240 h 4168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sp>
                <p:nvSpPr>
                  <p:cNvPr id="73" name="Freeform 75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>
                      <a:gd name="textAreaLeft" fmla="*/ 0 w 1266120"/>
                      <a:gd name="textAreaRight" fmla="*/ 1266120 w 1266120"/>
                      <a:gd name="textAreaTop" fmla="*/ 0 h 178560"/>
                      <a:gd name="textAreaBottom" fmla="*/ 178920 h 1785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>
                      <a:gd name="textAreaLeft" fmla="*/ -360 w 680760"/>
                      <a:gd name="textAreaRight" fmla="*/ 680760 w 680760"/>
                      <a:gd name="textAreaTop" fmla="*/ 0 h 282240"/>
                      <a:gd name="textAreaBottom" fmla="*/ 282600 h 2822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grpSp>
                <p:nvGrpSpPr>
                  <p:cNvPr id="75" name="Group 77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76" name="Freeform 78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>
                        <a:gd name="textAreaLeft" fmla="*/ 0 w 1309680"/>
                        <a:gd name="textAreaRight" fmla="*/ 1310040 w 1309680"/>
                        <a:gd name="textAreaTop" fmla="*/ 0 h 226800"/>
                        <a:gd name="textAreaBottom" fmla="*/ 227160 h 2268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77" name="Freeform 79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>
                        <a:gd name="textAreaLeft" fmla="*/ 0 w 702360"/>
                        <a:gd name="textAreaRight" fmla="*/ 702720 w 702360"/>
                        <a:gd name="textAreaTop" fmla="*/ 0 h 356040"/>
                        <a:gd name="textAreaBottom" fmla="*/ 356400 h 3560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78" name="Group 80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79" name="Freeform 81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>
                        <a:gd name="textAreaLeft" fmla="*/ 0 w 1424160"/>
                        <a:gd name="textAreaRight" fmla="*/ 1424520 w 1424160"/>
                        <a:gd name="textAreaTop" fmla="*/ 0 h 332640"/>
                        <a:gd name="textAreaBottom" fmla="*/ 333000 h 3326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80" name="Freeform 82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>
                        <a:gd name="textAreaLeft" fmla="*/ 0 w 764280"/>
                        <a:gd name="textAreaRight" fmla="*/ 764640 w 764280"/>
                        <a:gd name="textAreaTop" fmla="*/ 0 h 521280"/>
                        <a:gd name="textAreaBottom" fmla="*/ 521640 h 5212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81" name="Group 83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82" name="Freeform 84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>
                        <a:gd name="textAreaLeft" fmla="*/ 0 w 1175760"/>
                        <a:gd name="textAreaRight" fmla="*/ 1176120 w 1175760"/>
                        <a:gd name="textAreaTop" fmla="*/ 0 h 105840"/>
                        <a:gd name="textAreaBottom" fmla="*/ 106200 h 1058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83" name="Freeform 85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>
                        <a:gd name="textAreaLeft" fmla="*/ 0 w 631080"/>
                        <a:gd name="textAreaRight" fmla="*/ 631440 w 631080"/>
                        <a:gd name="textAreaTop" fmla="*/ 0 h 165960"/>
                        <a:gd name="textAreaBottom" fmla="*/ 166320 h 1659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84" name="Group 86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85" name="Freeform 87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>
                        <a:gd name="textAreaLeft" fmla="*/ 360 w 2125440"/>
                        <a:gd name="textAreaRight" fmla="*/ 2126160 w 2125440"/>
                        <a:gd name="textAreaTop" fmla="*/ 0 h 384480"/>
                        <a:gd name="textAreaBottom" fmla="*/ 384840 h 384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86" name="Freeform 88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>
                        <a:gd name="textAreaLeft" fmla="*/ 360 w 1140480"/>
                        <a:gd name="textAreaRight" fmla="*/ 1141200 w 1140480"/>
                        <a:gd name="textAreaTop" fmla="*/ 0 h 604080"/>
                        <a:gd name="textAreaBottom" fmla="*/ 604440 h 604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87" name="Group 89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88" name="Freeform 90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>
                        <a:gd name="textAreaLeft" fmla="*/ -360 w 1966680"/>
                        <a:gd name="textAreaRight" fmla="*/ 1966680 w 1966680"/>
                        <a:gd name="textAreaTop" fmla="*/ 0 h 384840"/>
                        <a:gd name="textAreaBottom" fmla="*/ 385200 h 3848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89" name="Freeform 91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>
                        <a:gd name="textAreaLeft" fmla="*/ -360 w 1055160"/>
                        <a:gd name="textAreaRight" fmla="*/ 1055160 w 1055160"/>
                        <a:gd name="textAreaTop" fmla="*/ 0 h 603720"/>
                        <a:gd name="textAreaBottom" fmla="*/ 604080 h 6037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90" name="Group 92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91" name="Freeform 93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>
                        <a:gd name="textAreaLeft" fmla="*/ -360 w 1886760"/>
                        <a:gd name="textAreaRight" fmla="*/ 1886760 w 1886760"/>
                        <a:gd name="textAreaTop" fmla="*/ 0 h 346320"/>
                        <a:gd name="textAreaBottom" fmla="*/ 346680 h 3463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92" name="Freeform 94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>
                        <a:gd name="textAreaLeft" fmla="*/ 360 w 1012320"/>
                        <a:gd name="textAreaRight" fmla="*/ 1013040 w 1012320"/>
                        <a:gd name="textAreaTop" fmla="*/ 0 h 544320"/>
                        <a:gd name="textAreaBottom" fmla="*/ 544680 h 5443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93" name="Group 95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94" name="Freeform 96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>
                        <a:gd name="textAreaLeft" fmla="*/ 0 w 2125800"/>
                        <a:gd name="textAreaRight" fmla="*/ 2126160 w 2125800"/>
                        <a:gd name="textAreaTop" fmla="*/ 0 h 384480"/>
                        <a:gd name="textAreaBottom" fmla="*/ 384840 h 384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95" name="Freeform 97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>
                        <a:gd name="textAreaLeft" fmla="*/ 0 w 1140480"/>
                        <a:gd name="textAreaRight" fmla="*/ 1140840 w 1140480"/>
                        <a:gd name="textAreaTop" fmla="*/ 0 h 604080"/>
                        <a:gd name="textAreaBottom" fmla="*/ 604440 h 604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96" name="Group 98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97" name="Freeform 99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>
                        <a:gd name="textAreaLeft" fmla="*/ 0 w 2034360"/>
                        <a:gd name="textAreaRight" fmla="*/ 2034720 w 2034360"/>
                        <a:gd name="textAreaTop" fmla="*/ 0 h 368640"/>
                        <a:gd name="textAreaBottom" fmla="*/ 369000 h 3686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98" name="Freeform 100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>
                        <a:gd name="textAreaLeft" fmla="*/ 0 w 1091160"/>
                        <a:gd name="textAreaRight" fmla="*/ 1091520 w 1091160"/>
                        <a:gd name="textAreaTop" fmla="*/ 0 h 578160"/>
                        <a:gd name="textAreaBottom" fmla="*/ 578520 h 5781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99" name="Group 101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100" name="Freeform 102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>
                        <a:gd name="textAreaLeft" fmla="*/ 0 w 1973880"/>
                        <a:gd name="textAreaRight" fmla="*/ 1974240 w 1973880"/>
                        <a:gd name="textAreaTop" fmla="*/ 0 h 303120"/>
                        <a:gd name="textAreaBottom" fmla="*/ 303480 h 3031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01" name="Freeform 103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>
                        <a:gd name="textAreaLeft" fmla="*/ 0 w 1059120"/>
                        <a:gd name="textAreaRight" fmla="*/ 1059480 w 1059120"/>
                        <a:gd name="textAreaTop" fmla="*/ 0 h 475920"/>
                        <a:gd name="textAreaBottom" fmla="*/ 476280 h 4759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02" name="Group 104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103" name="Freeform 105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>
                        <a:gd name="textAreaLeft" fmla="*/ 0 w 1814040"/>
                        <a:gd name="textAreaRight" fmla="*/ 1814400 w 1814040"/>
                        <a:gd name="textAreaTop" fmla="*/ 0 h 303120"/>
                        <a:gd name="textAreaBottom" fmla="*/ 303480 h 3031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04" name="Freeform 106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>
                        <a:gd name="textAreaLeft" fmla="*/ 0 w 974160"/>
                        <a:gd name="textAreaRight" fmla="*/ 974520 w 974160"/>
                        <a:gd name="textAreaTop" fmla="*/ 0 h 475560"/>
                        <a:gd name="textAreaBottom" fmla="*/ 475920 h 4755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05" name="Group 107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106" name="Freeform 108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>
                        <a:gd name="textAreaLeft" fmla="*/ 0 w 1771920"/>
                        <a:gd name="textAreaRight" fmla="*/ 1772280 w 1771920"/>
                        <a:gd name="textAreaTop" fmla="*/ 0 h 231480"/>
                        <a:gd name="textAreaBottom" fmla="*/ 231840 h 231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07" name="Freeform 109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>
                        <a:gd name="textAreaLeft" fmla="*/ 0 w 950760"/>
                        <a:gd name="textAreaRight" fmla="*/ 951120 w 950760"/>
                        <a:gd name="textAreaTop" fmla="*/ 0 h 363240"/>
                        <a:gd name="textAreaBottom" fmla="*/ 363600 h 3632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</p:grpSp>
          </p:grpSp>
          <p:grpSp>
            <p:nvGrpSpPr>
              <p:cNvPr id="108" name="Group 110"/>
              <p:cNvGrpSpPr/>
              <p:nvPr/>
            </p:nvGrpSpPr>
            <p:grpSpPr>
              <a:xfrm>
                <a:off x="2175480" y="682560"/>
                <a:ext cx="6731640" cy="4521240"/>
                <a:chOff x="2175480" y="682560"/>
                <a:chExt cx="6731640" cy="4521240"/>
              </a:xfrm>
            </p:grpSpPr>
            <p:grpSp>
              <p:nvGrpSpPr>
                <p:cNvPr id="109" name="Group 111"/>
                <p:cNvGrpSpPr/>
                <p:nvPr/>
              </p:nvGrpSpPr>
              <p:grpSpPr>
                <a:xfrm>
                  <a:off x="2175480" y="682560"/>
                  <a:ext cx="6731640" cy="4521240"/>
                  <a:chOff x="2175480" y="682560"/>
                  <a:chExt cx="6731640" cy="4521240"/>
                </a:xfrm>
              </p:grpSpPr>
              <p:sp>
                <p:nvSpPr>
                  <p:cNvPr id="110" name="Arc 112"/>
                  <p:cNvSpPr/>
                  <p:nvPr/>
                </p:nvSpPr>
                <p:spPr>
                  <a:xfrm flipV="1">
                    <a:off x="5741640" y="857880"/>
                    <a:ext cx="3165480" cy="2522520"/>
                  </a:xfrm>
                  <a:custGeom>
                    <a:avLst/>
                    <a:gdLst>
                      <a:gd name="textAreaLeft" fmla="*/ 0 w 3165480"/>
                      <a:gd name="textAreaRight" fmla="*/ 3165840 w 3165480"/>
                      <a:gd name="textAreaTop" fmla="*/ -360 h 2522520"/>
                      <a:gd name="textAreaBottom" fmla="*/ 2522520 h 2522520"/>
                    </a:gdLst>
                    <a:ahLst/>
                    <a:rect l="textAreaLeft" t="textAreaTop" r="textAreaRight" b="textAreaBottom"/>
                    <a:pathLst>
                      <a:path fill="none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</a:path>
                      <a:path stroke="0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  <a:lnTo>
                          <a:pt x="17826" y="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11" name="Arc 113"/>
                  <p:cNvSpPr/>
                  <p:nvPr/>
                </p:nvSpPr>
                <p:spPr>
                  <a:xfrm flipH="1">
                    <a:off x="2561760" y="2270520"/>
                    <a:ext cx="2485800" cy="2933280"/>
                  </a:xfrm>
                  <a:custGeom>
                    <a:avLst/>
                    <a:gdLst>
                      <a:gd name="textAreaLeft" fmla="*/ -360 w 2485800"/>
                      <a:gd name="textAreaRight" fmla="*/ 2485800 w 2485800"/>
                      <a:gd name="textAreaTop" fmla="*/ 0 h 2933280"/>
                      <a:gd name="textAreaBottom" fmla="*/ 2933640 h 2933280"/>
                    </a:gdLst>
                    <a:ahLst/>
                    <a:rect l="textAreaLeft" t="textAreaTop" r="textAreaRight" b="textAreaBottom"/>
                    <a:pathLst>
                      <a:path fill="none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</a:path>
                      <a:path stroke="0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  <a:lnTo>
                          <a:pt x="8873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12" name="Arc 114"/>
                  <p:cNvSpPr/>
                  <p:nvPr/>
                </p:nvSpPr>
                <p:spPr>
                  <a:xfrm>
                    <a:off x="5819400" y="1752840"/>
                    <a:ext cx="1758240" cy="2933280"/>
                  </a:xfrm>
                  <a:custGeom>
                    <a:avLst/>
                    <a:gdLst>
                      <a:gd name="textAreaLeft" fmla="*/ 0 w 1758240"/>
                      <a:gd name="textAreaRight" fmla="*/ 1758600 w 1758240"/>
                      <a:gd name="textAreaTop" fmla="*/ 0 h 2933280"/>
                      <a:gd name="textAreaBottom" fmla="*/ 2933640 h 2933280"/>
                    </a:gdLst>
                    <a:ahLst/>
                    <a:rect l="textAreaLeft" t="textAreaTop" r="textAreaRight" b="textAreaBottom"/>
                    <a:pathLst>
                      <a:path fill="none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</a:path>
                      <a:path stroke="0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  <a:lnTo>
                          <a:pt x="13212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13" name="Arc 115"/>
                  <p:cNvSpPr/>
                  <p:nvPr/>
                </p:nvSpPr>
                <p:spPr>
                  <a:xfrm flipH="1">
                    <a:off x="2175480" y="1298880"/>
                    <a:ext cx="3132000" cy="2933280"/>
                  </a:xfrm>
                  <a:custGeom>
                    <a:avLst/>
                    <a:gdLst>
                      <a:gd name="textAreaLeft" fmla="*/ 360 w 3132000"/>
                      <a:gd name="textAreaRight" fmla="*/ 3132720 w 3132000"/>
                      <a:gd name="textAreaTop" fmla="*/ 0 h 2933280"/>
                      <a:gd name="textAreaBottom" fmla="*/ 2933640 h 2933280"/>
                    </a:gdLst>
                    <a:ahLst/>
                    <a:rect l="textAreaLeft" t="textAreaTop" r="textAreaRight" b="textAreaBottom"/>
                    <a:pathLst>
                      <a:path fill="none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</a:path>
                      <a:path stroke="0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  <a:lnTo>
                          <a:pt x="15230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14" name="Arc 116"/>
                  <p:cNvSpPr/>
                  <p:nvPr/>
                </p:nvSpPr>
                <p:spPr>
                  <a:xfrm flipH="1">
                    <a:off x="3058560" y="682560"/>
                    <a:ext cx="2280960" cy="2840760"/>
                  </a:xfrm>
                  <a:custGeom>
                    <a:avLst/>
                    <a:gdLst>
                      <a:gd name="textAreaLeft" fmla="*/ 360 w 2280960"/>
                      <a:gd name="textAreaRight" fmla="*/ 2281680 w 2280960"/>
                      <a:gd name="textAreaTop" fmla="*/ 0 h 2840760"/>
                      <a:gd name="textAreaBottom" fmla="*/ 2840760 h 2840760"/>
                    </a:gdLst>
                    <a:ahLst/>
                    <a:rect l="textAreaLeft" t="textAreaTop" r="textAreaRight" b="textAreaBottom"/>
                    <a:pathLst>
                      <a:path fill="none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</a:path>
                      <a:path stroke="0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  <a:lnTo>
                          <a:pt x="18231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15" name="Arc 117"/>
                  <p:cNvSpPr/>
                  <p:nvPr/>
                </p:nvSpPr>
                <p:spPr>
                  <a:xfrm>
                    <a:off x="5491080" y="1875960"/>
                    <a:ext cx="941760" cy="2840760"/>
                  </a:xfrm>
                  <a:custGeom>
                    <a:avLst/>
                    <a:gdLst>
                      <a:gd name="textAreaLeft" fmla="*/ 0 w 941760"/>
                      <a:gd name="textAreaRight" fmla="*/ 942120 w 941760"/>
                      <a:gd name="textAreaTop" fmla="*/ 0 h 2840760"/>
                      <a:gd name="textAreaBottom" fmla="*/ 2840760 h 2840760"/>
                    </a:gdLst>
                    <a:ahLst/>
                    <a:rect l="textAreaLeft" t="textAreaTop" r="textAreaRight" b="textAreaBottom"/>
                    <a:pathLst>
                      <a:path fill="none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</a:path>
                      <a:path stroke="0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  <a:lnTo>
                          <a:pt x="13212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16" name="Freeform 118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>
                      <a:gd name="textAreaLeft" fmla="*/ -360 w 515160"/>
                      <a:gd name="textAreaRight" fmla="*/ 515160 w 515160"/>
                      <a:gd name="textAreaTop" fmla="*/ 0 h 1879200"/>
                      <a:gd name="textAreaBottom" fmla="*/ 1879560 h 1879200"/>
                    </a:gdLst>
                    <a:ahLst/>
                    <a:rect l="textAreaLeft" t="textAreaTop" r="textAreaRight" b="textAreaBottom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117" name="Freeform 119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>
                    <a:gd name="textAreaLeft" fmla="*/ 0 w 544680"/>
                    <a:gd name="textAreaRight" fmla="*/ 545040 w 544680"/>
                    <a:gd name="textAreaTop" fmla="*/ 0 h 1031760"/>
                    <a:gd name="textAreaBottom" fmla="*/ 1032120 h 1031760"/>
                  </a:gdLst>
                  <a:ahLst/>
                  <a:rect l="textAreaLeft" t="textAreaTop" r="textAreaRight" b="textAreaBottom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</p:grpSp>
        <p:grpSp>
          <p:nvGrpSpPr>
            <p:cNvPr id="118" name="Group 120"/>
            <p:cNvGrpSpPr/>
            <p:nvPr/>
          </p:nvGrpSpPr>
          <p:grpSpPr>
            <a:xfrm>
              <a:off x="2343960" y="714240"/>
              <a:ext cx="6411960" cy="4708440"/>
              <a:chOff x="2343960" y="714240"/>
              <a:chExt cx="6411960" cy="4708440"/>
            </a:xfrm>
          </p:grpSpPr>
          <p:sp>
            <p:nvSpPr>
              <p:cNvPr id="119" name="Freeform 121"/>
              <p:cNvSpPr/>
              <p:nvPr/>
            </p:nvSpPr>
            <p:spPr>
              <a:xfrm flipH="1">
                <a:off x="4470840" y="3236400"/>
                <a:ext cx="598320" cy="1824120"/>
              </a:xfrm>
              <a:custGeom>
                <a:avLst/>
                <a:gdLst>
                  <a:gd name="textAreaLeft" fmla="*/ 360 w 598320"/>
                  <a:gd name="textAreaRight" fmla="*/ 599040 w 598320"/>
                  <a:gd name="textAreaTop" fmla="*/ 0 h 1824120"/>
                  <a:gd name="textAreaBottom" fmla="*/ 1824480 h 182412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0" name="Arc 122"/>
              <p:cNvSpPr/>
              <p:nvPr/>
            </p:nvSpPr>
            <p:spPr>
              <a:xfrm flipH="1">
                <a:off x="3385440" y="2581200"/>
                <a:ext cx="2617200" cy="2841480"/>
              </a:xfrm>
              <a:custGeom>
                <a:avLst/>
                <a:gdLst>
                  <a:gd name="textAreaLeft" fmla="*/ 0 w 2617200"/>
                  <a:gd name="textAreaRight" fmla="*/ 2617200 w 2617200"/>
                  <a:gd name="textAreaTop" fmla="*/ 0 h 2841480"/>
                  <a:gd name="textAreaBottom" fmla="*/ 2841840 h 2841480"/>
                </a:gdLst>
                <a:ahLst/>
                <a:rect l="textAreaLeft" t="textAreaTop" r="textAreaRight" b="textAreaBottom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1" name="Arc 123"/>
              <p:cNvSpPr/>
              <p:nvPr/>
            </p:nvSpPr>
            <p:spPr>
              <a:xfrm flipH="1">
                <a:off x="3646800" y="2123640"/>
                <a:ext cx="1534320" cy="2934000"/>
              </a:xfrm>
              <a:custGeom>
                <a:avLst/>
                <a:gdLst>
                  <a:gd name="textAreaLeft" fmla="*/ 360 w 1534320"/>
                  <a:gd name="textAreaRight" fmla="*/ 1535040 w 1534320"/>
                  <a:gd name="textAreaTop" fmla="*/ 0 h 2934000"/>
                  <a:gd name="textAreaBottom" fmla="*/ 2934360 h 2934000"/>
                </a:gdLst>
                <a:ahLst/>
                <a:rect l="textAreaLeft" t="textAreaTop" r="textAreaRight" b="textAreaBottom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2" name="Arc 124"/>
              <p:cNvSpPr/>
              <p:nvPr/>
            </p:nvSpPr>
            <p:spPr>
              <a:xfrm flipH="1">
                <a:off x="2343600" y="1739160"/>
                <a:ext cx="2930760" cy="2933640"/>
              </a:xfrm>
              <a:custGeom>
                <a:avLst/>
                <a:gdLst>
                  <a:gd name="textAreaLeft" fmla="*/ -360 w 2930760"/>
                  <a:gd name="textAreaRight" fmla="*/ 2930760 w 2930760"/>
                  <a:gd name="textAreaTop" fmla="*/ 0 h 2933640"/>
                  <a:gd name="textAreaBottom" fmla="*/ 2934000 h 2933640"/>
                </a:gdLst>
                <a:ahLst/>
                <a:rect l="textAreaLeft" t="textAreaTop" r="textAreaRight" b="textAreaBottom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3" name="Arc 125"/>
              <p:cNvSpPr/>
              <p:nvPr/>
            </p:nvSpPr>
            <p:spPr>
              <a:xfrm>
                <a:off x="5588640" y="2152080"/>
                <a:ext cx="469800" cy="2934000"/>
              </a:xfrm>
              <a:custGeom>
                <a:avLst/>
                <a:gdLst>
                  <a:gd name="textAreaLeft" fmla="*/ 0 w 469800"/>
                  <a:gd name="textAreaRight" fmla="*/ 470160 w 469800"/>
                  <a:gd name="textAreaTop" fmla="*/ 0 h 2934000"/>
                  <a:gd name="textAreaBottom" fmla="*/ 2934360 h 293400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4" name="Arc 126"/>
              <p:cNvSpPr/>
              <p:nvPr/>
            </p:nvSpPr>
            <p:spPr>
              <a:xfrm>
                <a:off x="5711760" y="2138400"/>
                <a:ext cx="1238040" cy="2934000"/>
              </a:xfrm>
              <a:custGeom>
                <a:avLst/>
                <a:gdLst>
                  <a:gd name="textAreaLeft" fmla="*/ 0 w 1238040"/>
                  <a:gd name="textAreaRight" fmla="*/ 1238400 w 1238040"/>
                  <a:gd name="textAreaTop" fmla="*/ 0 h 2934000"/>
                  <a:gd name="textAreaBottom" fmla="*/ 2934360 h 293400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5" name="Freeform 127"/>
              <p:cNvSpPr/>
              <p:nvPr/>
            </p:nvSpPr>
            <p:spPr>
              <a:xfrm>
                <a:off x="6157080" y="3548520"/>
                <a:ext cx="598320" cy="1824120"/>
              </a:xfrm>
              <a:custGeom>
                <a:avLst/>
                <a:gdLst>
                  <a:gd name="textAreaLeft" fmla="*/ 0 w 598320"/>
                  <a:gd name="textAreaRight" fmla="*/ 598680 w 598320"/>
                  <a:gd name="textAreaTop" fmla="*/ 0 h 1824120"/>
                  <a:gd name="textAreaBottom" fmla="*/ 1824480 h 182412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6" name="Freeform 128"/>
              <p:cNvSpPr/>
              <p:nvPr/>
            </p:nvSpPr>
            <p:spPr>
              <a:xfrm flipV="1" rot="19660800">
                <a:off x="5225400" y="2949840"/>
                <a:ext cx="544680" cy="1032120"/>
              </a:xfrm>
              <a:custGeom>
                <a:avLst/>
                <a:gdLst>
                  <a:gd name="textAreaLeft" fmla="*/ 0 w 544680"/>
                  <a:gd name="textAreaRight" fmla="*/ 545040 w 544680"/>
                  <a:gd name="textAreaTop" fmla="*/ -360 h 1032120"/>
                  <a:gd name="textAreaBottom" fmla="*/ 1032120 h 103212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7" name="Freeform 129"/>
              <p:cNvSpPr/>
              <p:nvPr/>
            </p:nvSpPr>
            <p:spPr>
              <a:xfrm flipH="1">
                <a:off x="2688120" y="3386880"/>
                <a:ext cx="1338480" cy="1879200"/>
              </a:xfrm>
              <a:custGeom>
                <a:avLst/>
                <a:gdLst>
                  <a:gd name="textAreaLeft" fmla="*/ 360 w 1338480"/>
                  <a:gd name="textAreaRight" fmla="*/ 1339200 w 1338480"/>
                  <a:gd name="textAreaTop" fmla="*/ 0 h 1879200"/>
                  <a:gd name="textAreaBottom" fmla="*/ 1879560 h 18792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8" name="Freeform 130"/>
              <p:cNvSpPr/>
              <p:nvPr/>
            </p:nvSpPr>
            <p:spPr>
              <a:xfrm flipH="1">
                <a:off x="3318840" y="1400040"/>
                <a:ext cx="858240" cy="1879200"/>
              </a:xfrm>
              <a:custGeom>
                <a:avLst/>
                <a:gdLst>
                  <a:gd name="textAreaLeft" fmla="*/ 360 w 858240"/>
                  <a:gd name="textAreaRight" fmla="*/ 858960 w 858240"/>
                  <a:gd name="textAreaTop" fmla="*/ 0 h 1879200"/>
                  <a:gd name="textAreaBottom" fmla="*/ 1879560 h 18792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9" name="Freeform 131"/>
              <p:cNvSpPr/>
              <p:nvPr/>
            </p:nvSpPr>
            <p:spPr>
              <a:xfrm>
                <a:off x="7513920" y="3110400"/>
                <a:ext cx="1242000" cy="1974600"/>
              </a:xfrm>
              <a:custGeom>
                <a:avLst/>
                <a:gdLst>
                  <a:gd name="textAreaLeft" fmla="*/ 0 w 1242000"/>
                  <a:gd name="textAreaRight" fmla="*/ 1242360 w 1242000"/>
                  <a:gd name="textAreaTop" fmla="*/ 0 h 1974600"/>
                  <a:gd name="textAreaBottom" fmla="*/ 1974960 h 19746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0" name="Freeform 132"/>
              <p:cNvSpPr/>
              <p:nvPr/>
            </p:nvSpPr>
            <p:spPr>
              <a:xfrm>
                <a:off x="6868800" y="2111400"/>
                <a:ext cx="1872360" cy="1315800"/>
              </a:xfrm>
              <a:custGeom>
                <a:avLst/>
                <a:gdLst>
                  <a:gd name="textAreaLeft" fmla="*/ 0 w 1872360"/>
                  <a:gd name="textAreaRight" fmla="*/ 1872720 w 1872360"/>
                  <a:gd name="textAreaTop" fmla="*/ 0 h 1315800"/>
                  <a:gd name="textAreaBottom" fmla="*/ 1316160 h 13158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1" name="Freeform 133"/>
              <p:cNvSpPr/>
              <p:nvPr/>
            </p:nvSpPr>
            <p:spPr>
              <a:xfrm>
                <a:off x="6937920" y="714240"/>
                <a:ext cx="817560" cy="1768680"/>
              </a:xfrm>
              <a:custGeom>
                <a:avLst/>
                <a:gdLst>
                  <a:gd name="textAreaLeft" fmla="*/ 0 w 817560"/>
                  <a:gd name="textAreaRight" fmla="*/ 817920 w 817560"/>
                  <a:gd name="textAreaTop" fmla="*/ 0 h 1768680"/>
                  <a:gd name="textAreaBottom" fmla="*/ 1769040 h 17686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2" name="Freeform 134"/>
              <p:cNvSpPr/>
              <p:nvPr/>
            </p:nvSpPr>
            <p:spPr>
              <a:xfrm flipH="1" rot="1347000">
                <a:off x="4184640" y="2156040"/>
                <a:ext cx="545040" cy="1032120"/>
              </a:xfrm>
              <a:custGeom>
                <a:avLst/>
                <a:gdLst>
                  <a:gd name="textAreaLeft" fmla="*/ 360 w 545040"/>
                  <a:gd name="textAreaRight" fmla="*/ 545760 w 545040"/>
                  <a:gd name="textAreaTop" fmla="*/ 0 h 1032120"/>
                  <a:gd name="textAreaBottom" fmla="*/ 1032480 h 103212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FFBA3-6C16-4E63-ADE1-94C8048BF908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1549440" y="4060440"/>
            <a:ext cx="6045120" cy="15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6" name="WordArt 4"/>
          <p:cNvSpPr txBox="1"/>
          <p:nvPr/>
        </p:nvSpPr>
        <p:spPr>
          <a:xfrm>
            <a:off x="838080" y="1371600"/>
            <a:ext cx="746784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JAMESTOWN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77" name="WordArt 5"/>
          <p:cNvSpPr txBox="1"/>
          <p:nvPr/>
        </p:nvSpPr>
        <p:spPr>
          <a:xfrm>
            <a:off x="2057400" y="4724280"/>
            <a:ext cx="541008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Times New Roman"/>
              </a:rPr>
              <a:t>1607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Times New Roman"/>
              <a:ea typeface="Times New Roman"/>
            </a:endParaRPr>
          </a:p>
        </p:txBody>
      </p:sp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Tobacco became Virginia first cash crop, or crop grown for profit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201" name="Picture 5" descr="articles_gallery_3_0705"/>
          <p:cNvPicPr/>
          <p:nvPr/>
        </p:nvPicPr>
        <p:blipFill>
          <a:blip r:embed="rId1"/>
          <a:stretch/>
        </p:blipFill>
        <p:spPr>
          <a:xfrm>
            <a:off x="4267080" y="3429000"/>
            <a:ext cx="5105520" cy="35766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Indentured servants agreed to work for someone for a certain amount of time in exchange for the cost of the ocean voyage to North America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Self-Government in Virginia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e House of Burgesses was the first lawmaking assembly in an English colony. The house of Burgesses isn’t really a house it is a group of people like our government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206" name="Picture 5" descr="First General Assembly"/>
          <p:cNvPicPr/>
          <p:nvPr/>
        </p:nvPicPr>
        <p:blipFill>
          <a:blip r:embed="rId1"/>
          <a:stretch/>
        </p:blipFill>
        <p:spPr>
          <a:xfrm>
            <a:off x="5791320" y="4513320"/>
            <a:ext cx="3352680" cy="23446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Virginia__1607__The_First_English_Colony_at_Jamestown.asf" descr=""/>
          <p:cNvPicPr/>
          <p:nvPr/>
        </p:nvPicPr>
        <p:blipFill>
          <a:blip r:embed="rId1"/>
          <a:stretch/>
        </p:blipFill>
        <p:spPr>
          <a:xfrm>
            <a:off x="1143000" y="2590920"/>
            <a:ext cx="7391520" cy="4267080"/>
          </a:xfrm>
          <a:prstGeom prst="rect">
            <a:avLst/>
          </a:prstGeom>
          <a:ln w="0">
            <a:noFill/>
          </a:ln>
        </p:spPr>
      </p:pic>
      <p:sp>
        <p:nvSpPr>
          <p:cNvPr id="208" name="TextBox 2"/>
          <p:cNvSpPr/>
          <p:nvPr/>
        </p:nvSpPr>
        <p:spPr>
          <a:xfrm>
            <a:off x="457200" y="304920"/>
            <a:ext cx="81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MOVIE TIME!!!!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20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20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2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The Jamestown colony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In 1606 a group of merchants ask King James I for a charter to set up a colony in Virginia.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A charter was a document that would let the colonist to settle on land by their ruler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81" name="Picture 5" descr="Charter for the Virginia Company of London, 1606"/>
          <p:cNvPicPr/>
          <p:nvPr/>
        </p:nvPicPr>
        <p:blipFill>
          <a:blip r:embed="rId1"/>
          <a:stretch/>
        </p:blipFill>
        <p:spPr>
          <a:xfrm>
            <a:off x="6400800" y="3314880"/>
            <a:ext cx="2346480" cy="35431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e owner of Virginia earned money by selling stock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In, 1607 the three English ships carrying around 120 colonists reached the Eastern coast of Virginia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Looking for an area that’s easy to defend ,they unloaded their ships and called the land Jamestown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86" name="Picture 5" descr="ships"/>
          <p:cNvPicPr/>
          <p:nvPr/>
        </p:nvPicPr>
        <p:blipFill>
          <a:blip r:embed="rId1"/>
          <a:stretch/>
        </p:blipFill>
        <p:spPr>
          <a:xfrm>
            <a:off x="5362560" y="3733920"/>
            <a:ext cx="3781440" cy="25812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John Smith, one of the setter called Jamestown “a very fit place for erecting a great city”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89" name="Picture 12" descr="jsmithname"/>
          <p:cNvPicPr/>
          <p:nvPr/>
        </p:nvPicPr>
        <p:blipFill>
          <a:blip r:embed="rId1"/>
          <a:stretch/>
        </p:blipFill>
        <p:spPr>
          <a:xfrm>
            <a:off x="5613480" y="2514600"/>
            <a:ext cx="3376440" cy="43434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John Smith and the “Starving Time”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John Smith issued a order to the surviving men based on the Bible: “He that will not work, shall not eat”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mith also began trading with Chief Powhatan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92" name="Picture 6" descr="pocahontas_saving_life3"/>
          <p:cNvPicPr/>
          <p:nvPr/>
        </p:nvPicPr>
        <p:blipFill>
          <a:blip r:embed="rId1"/>
          <a:stretch/>
        </p:blipFill>
        <p:spPr>
          <a:xfrm>
            <a:off x="5875200" y="2362320"/>
            <a:ext cx="3268800" cy="44956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hief Powhatan’s young daughter, Pocahontas, often visited Jamestown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95" name="Picture 5" descr="pocahont"/>
          <p:cNvPicPr/>
          <p:nvPr/>
        </p:nvPicPr>
        <p:blipFill>
          <a:blip r:embed="rId1"/>
          <a:stretch/>
        </p:blipFill>
        <p:spPr>
          <a:xfrm>
            <a:off x="6240600" y="3124080"/>
            <a:ext cx="2903400" cy="37339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Tobacco Helps Jamestown Grow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In about 1612 settler named John Rolfe  eared a crop of tobacco in the rich Virginia soil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98" name="Picture 5" descr="poca"/>
          <p:cNvPicPr/>
          <p:nvPr/>
        </p:nvPicPr>
        <p:blipFill>
          <a:blip r:embed="rId1"/>
          <a:stretch/>
        </p:blipFill>
        <p:spPr>
          <a:xfrm>
            <a:off x="6213600" y="3200400"/>
            <a:ext cx="2930400" cy="36576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4T15:01:30Z</dcterms:created>
  <dc:creator>student</dc:creator>
  <dc:description/>
  <dc:language>en-US</dc:language>
  <cp:lastModifiedBy>student</cp:lastModifiedBy>
  <dcterms:modified xsi:type="dcterms:W3CDTF">2010-03-01T19:29:57Z</dcterms:modified>
  <cp:revision>7</cp:revision>
  <dc:subject/>
  <dc:title>Jamestown</dc:title>
</cp:coreProperties>
</file>